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FE2-DBC9-4EA3-BACF-6994BD8D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3CA-5645-4B08-9234-E65FD25F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A9E-2719-45D2-84AC-C3298ABD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B33-372D-45B8-8530-0ED43913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993-4670-4277-B550-C5B0E302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AA0-451D-4423-9565-F685FA8F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1DC-4625-415B-BB15-827384E9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672-4FF4-47D8-AB40-A5295774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317-DA72-49D1-8307-E1FD7C03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BE4-20BF-42CC-9425-F536A35F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6FD-4677-4577-8010-0F9A1AC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7AE-64E3-4FD3-A3C8-6227286E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44A0-D192-4A89-8235-746702D07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4 Života dar z teba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dar z teba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ho tebe odovz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užbu svojich rúk jak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kladiem, Pane, na oltár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hy obdar ocho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ť vďačne za tebou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dar hlasu, čo s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vzdá ti chválu, slávy Kráľ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ou chcem ťa, Pane, c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ou pravdy veleb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som a čo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tvojej službe vďačne dá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ľu moju posil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kutkom lásky usmern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väť srdca každý 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nech viem v mier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ľuďmi žiť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vrúcnej vďaky pl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o, čo som a čo m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o, v čo dúf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úprimne ti ďakujem.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09:45:56Z</dcterms:modified>
  <cp:revision>20</cp:revision>
  <dc:subject/>
  <dc:title>Je veľký náš Pán, on slávy je Kráľ Nech do všetkých strán  spev vrúcnych znie chvál.</dc:title>
</cp:coreProperties>
</file>